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2E1-74F4-447F-A8DC-73C07997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631-222B-4D57-9535-9287742E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7EA-0D70-4566-8D01-8EDD3850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377-9232-466D-A372-FA988C0D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5CF-C8D6-4635-96D9-9F8F958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C03-0540-4990-AAC5-A69FC9D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BF7-98E7-4E37-A778-5A03E2FA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98A-BEF1-406A-929D-47FEA28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688-15E8-4A09-BE8F-3A324C43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B39-235F-4223-ADB1-3FA1795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378-B46B-4C09-BA70-7D140D1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806-1340-4DC5-83C7-FEB7567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248CC98-6FE7-4607-B545-654CC18AF7A7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电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许昭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5"/>
          <p:cNvSpPr/>
          <p:nvPr/>
        </p:nvSpPr>
        <p:spPr>
          <a:xfrm>
            <a:off x="3740760" y="13644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无功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774720" y="571680"/>
            <a:ext cx="525636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并联电容器组的控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手动投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补偿低压基本无功功率的电容器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常年稳定的无功功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长期投入运行的变压器或变配电所内投切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较少的高压电动机及高压电容器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自动调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为避免过补偿，而装设无功自动补偿装置在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济上合理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避免轻载时电压过高，造成某些用电设备损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而装设无功自动补偿装置在经济上合理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只有装设无功自动补偿装置，才能满足在各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黑体"/>
              </a:rPr>
              <a:t>运行负荷的情况下的电压偏差允许值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" descr="并联电容器控制1"/>
          <p:cNvPicPr/>
          <p:nvPr/>
        </p:nvPicPr>
        <p:blipFill>
          <a:blip r:embed="rId2"/>
          <a:stretch/>
        </p:blipFill>
        <p:spPr>
          <a:xfrm>
            <a:off x="6257880" y="2975040"/>
            <a:ext cx="2451240" cy="1297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并联电容器控制2"/>
          <p:cNvPicPr/>
          <p:nvPr/>
        </p:nvPicPr>
        <p:blipFill>
          <a:blip r:embed="rId3"/>
          <a:stretch/>
        </p:blipFill>
        <p:spPr>
          <a:xfrm>
            <a:off x="6134040" y="1027080"/>
            <a:ext cx="2529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299400" y="5554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黑体"/>
                <a:ea typeface="黑体"/>
              </a:rPr>
              <a:t>ZHENGZHOU ELECTRIC POWER TECHNOLOGY COLLE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451400" y="19828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并联电容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01960" y="1393920"/>
            <a:ext cx="1549440" cy="877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271240"/>
            <a:ext cx="1401480" cy="297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449600" y="113364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电力电容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3"/>
          <p:cNvSpPr/>
          <p:nvPr/>
        </p:nvSpPr>
        <p:spPr>
          <a:xfrm>
            <a:off x="4451400" y="3681360"/>
            <a:ext cx="3560760" cy="5097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并联电容器的无功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4045680" y="12384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电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2"/>
          <p:cNvSpPr/>
          <p:nvPr/>
        </p:nvSpPr>
        <p:spPr>
          <a:xfrm>
            <a:off x="4451400" y="28321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并联电容器的接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901960" y="3076560"/>
            <a:ext cx="1547640" cy="9000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989440" y="2808360"/>
            <a:ext cx="1460160" cy="279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1400040"/>
            <a:ext cx="49816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定义：用于电力系统和电工设备的电容器。任意两块金属导体，中间用绝缘介质隔开，即构成一个电容器。电容器的容量单位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va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kva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分类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串联电容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并联电容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969360" y="13644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电力电容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" descr="电力电容器"/>
          <p:cNvPicPr/>
          <p:nvPr/>
        </p:nvPicPr>
        <p:blipFill>
          <a:blip r:embed="rId2"/>
          <a:stretch/>
        </p:blipFill>
        <p:spPr>
          <a:xfrm>
            <a:off x="6039000" y="1487520"/>
            <a:ext cx="26701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662040"/>
            <a:ext cx="316872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串联电容器的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提高线路末端电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降低受电端电压波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提高线路输电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改善系统潮流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提高系统的稳定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69360" y="141120"/>
            <a:ext cx="120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电力电容器简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40320" y="662040"/>
            <a:ext cx="316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并联电容器的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改善系统功率因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提高受电端母线电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提高线路的输电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3639240" y="13644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880920" y="865080"/>
            <a:ext cx="4224600" cy="24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普通型并联电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油浸纸介质并联电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）聚丙烯金属膜并联电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自愈式电容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10kV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集合式并联电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3" descr="自愈式电容器"/>
          <p:cNvPicPr/>
          <p:nvPr/>
        </p:nvPicPr>
        <p:blipFill>
          <a:blip r:embed="rId2"/>
          <a:stretch/>
        </p:blipFill>
        <p:spPr>
          <a:xfrm>
            <a:off x="5994360" y="1338120"/>
            <a:ext cx="2114640" cy="190368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4"/>
          <p:cNvSpPr/>
          <p:nvPr/>
        </p:nvSpPr>
        <p:spPr>
          <a:xfrm>
            <a:off x="6416640" y="3435480"/>
            <a:ext cx="1270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黑体"/>
              </a:rPr>
              <a:t>自愈式电容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5"/>
          <p:cNvSpPr/>
          <p:nvPr/>
        </p:nvSpPr>
        <p:spPr>
          <a:xfrm>
            <a:off x="3893040" y="13644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接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" descr="电容器接线1"/>
          <p:cNvPicPr/>
          <p:nvPr/>
        </p:nvPicPr>
        <p:blipFill>
          <a:blip r:embed="rId2"/>
          <a:stretch/>
        </p:blipFill>
        <p:spPr>
          <a:xfrm>
            <a:off x="3638520" y="1287360"/>
            <a:ext cx="5027760" cy="15051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4" descr="电容器接线2"/>
          <p:cNvPicPr/>
          <p:nvPr/>
        </p:nvPicPr>
        <p:blipFill>
          <a:blip r:embed="rId3"/>
          <a:stretch/>
        </p:blipFill>
        <p:spPr>
          <a:xfrm>
            <a:off x="3638520" y="2749680"/>
            <a:ext cx="502776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并联电容器规范"/>
          <p:cNvPicPr/>
          <p:nvPr/>
        </p:nvPicPr>
        <p:blipFill>
          <a:blip r:embed="rId4"/>
          <a:stretch/>
        </p:blipFill>
        <p:spPr>
          <a:xfrm>
            <a:off x="958680" y="941400"/>
            <a:ext cx="2529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3740760" y="13644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无功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880920" y="865080"/>
            <a:ext cx="753588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概念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无功补偿，全称无功功率补偿，是一种在电力供电系统中起提高电网的功率因数的作用，降低供电变压器及输送线路的损耗，提高供电效率，改善供电条件的技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基本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把具有容性无功功率负荷的装置并接在感性负荷的电路中，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=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，电源不再通过线路输送无功功率；若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，电源需通过线路输送的无功功率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Q=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-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黑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5"/>
          <p:cNvSpPr/>
          <p:nvPr/>
        </p:nvSpPr>
        <p:spPr>
          <a:xfrm>
            <a:off x="3740760" y="13644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无功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880920" y="1136520"/>
            <a:ext cx="64152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补偿原则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就地平衡无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补偿方式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集中补偿、分散补偿和个别补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集中补偿又分为高压集中补偿和低压集中补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5"/>
          <p:cNvSpPr/>
          <p:nvPr/>
        </p:nvSpPr>
        <p:spPr>
          <a:xfrm>
            <a:off x="3740760" y="13644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并联电容器的无功补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49440" y="901800"/>
            <a:ext cx="7845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高压集中补偿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高压电容器组集中装设在工矿企业主变电所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10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母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低压集中补偿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低压电容器组集中装设在车间变电所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0.4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母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分散补偿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电容器组分组安装在各分配电室或各分路出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个别补偿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电容器直接并接到单台用电设备的同一电气回路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22:38Z</dcterms:modified>
  <cp:revision>5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